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055D-1D24-4C90-AA47-F233F47D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BF9D-480F-481A-B1C0-24661C64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A283-2B0A-4213-A05B-698CBA51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B3E2-A592-46EF-AAC5-C53AD996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5CA8-56EF-4071-BAD7-549A0C92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14FE-94C6-4687-87C9-A3CE6A85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E065-DE7D-4E07-AF2D-90D7F182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FDF3-C2B8-4D58-B096-11D00E19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435C-0F36-4EA8-B288-06B19AE3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8B7C-A776-4540-816B-1E3434AC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818D-6221-4D99-8707-41DB21C4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354-BB8A-48FA-8A45-FD1F9821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FE92-F319-4FD5-B0E7-D9C07591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C3CF-6DB0-44E3-BB36-9F1B01BD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CED6-976B-41BB-961F-F00DF543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87FE-E0EA-4A77-A339-DB4D98C7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5F4A-2B1B-4C90-8CD5-1FA502F3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788-093B-48F6-A9EF-897CFCCB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13D-B12C-4918-A3FF-C6223F57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E42-5D72-428C-9DD2-BBAFE0DA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75E-9947-4639-B805-E8C66E55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D1C-EE31-4D98-BC5F-DC34360C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CB5-E35C-4B25-B3F4-52BAB4D8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70D-223E-4792-8E96-649F0730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6072-7E2B-4A74-BD46-FDA392A239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EA82-AD7F-445B-8336-2BDACC8CD0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5" descr="http://allforchildren.ru/rebus/rebus9/9-001.gif"/>
          <p:cNvPicPr/>
          <p:nvPr/>
        </p:nvPicPr>
        <p:blipFill>
          <a:blip r:embed="rId1"/>
          <a:stretch/>
        </p:blipFill>
        <p:spPr>
          <a:xfrm>
            <a:off x="755640" y="1773360"/>
            <a:ext cx="7939080" cy="43671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3"/>
          <p:cNvSpPr/>
          <p:nvPr/>
        </p:nvSpPr>
        <p:spPr>
          <a:xfrm>
            <a:off x="611280" y="549360"/>
            <a:ext cx="82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азгадайте  ребус и выскажите свои мнения, о чем пойдет речь на уроке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РАЗНООБРАЗИЕ РАКОВИН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Picture 13" descr="E:\x_4cc04492.jpg"/>
          <p:cNvPicPr/>
          <p:nvPr/>
        </p:nvPicPr>
        <p:blipFill>
          <a:blip r:embed="rId1"/>
          <a:stretch/>
        </p:blipFill>
        <p:spPr>
          <a:xfrm>
            <a:off x="1031760" y="1125360"/>
            <a:ext cx="729792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41440" y="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е 2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395280" y="105264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Segoe UI Light"/>
              </a:rPr>
              <a:t>Лабораторная работа: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Segoe UI Light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Segoe UI Light"/>
              </a:rPr>
              <a:t>Изучение раковин моллюсков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250920" y="1700280"/>
            <a:ext cx="864216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Рассмотрите предложенные вам раковины моллюсков. Разделите их на группы брюхоногие и двустворчатые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Найдите 3 слоя раковины: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1.  рогового (наружного),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2.  фарфорового,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3. перламутрового (внутреннего)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3) Выявите у раковин:  количество завитков-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размеры-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окраску-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наличие выростов-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4) Сделайте вывод:  зачем нужна раковина моллюскам (функция раковины)?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ОРГАНЫ ЧУВСТ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Picture 4" descr="виногра"/>
          <p:cNvPicPr/>
          <p:nvPr/>
        </p:nvPicPr>
        <p:blipFill>
          <a:blip r:embed="rId1"/>
          <a:stretch/>
        </p:blipFill>
        <p:spPr>
          <a:xfrm>
            <a:off x="395280" y="1052640"/>
            <a:ext cx="3456000" cy="2376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кальмар 3"/>
          <p:cNvPicPr/>
          <p:nvPr/>
        </p:nvPicPr>
        <p:blipFill>
          <a:blip r:embed="rId2"/>
          <a:stretch/>
        </p:blipFill>
        <p:spPr>
          <a:xfrm>
            <a:off x="395280" y="3716280"/>
            <a:ext cx="3745080" cy="27637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6"/>
          <p:cNvSpPr/>
          <p:nvPr/>
        </p:nvSpPr>
        <p:spPr>
          <a:xfrm>
            <a:off x="4211640" y="119700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3995640" y="1197000"/>
            <a:ext cx="4824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fe1ff"/>
                </a:solidFill>
                <a:latin typeface="Times New Roman"/>
              </a:rPr>
              <a:t>Органы осязания – на голове, в ноге, жабрах.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fe1ff"/>
                </a:solidFill>
                <a:latin typeface="Times New Roman"/>
              </a:rPr>
              <a:t>Органы зрения – на голове.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fe1ff"/>
                </a:solidFill>
                <a:latin typeface="Times New Roman"/>
              </a:rPr>
              <a:t>Органы обоняния – на голове, в коже.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fe1ff"/>
                </a:solidFill>
                <a:latin typeface="Times New Roman"/>
              </a:rPr>
              <a:t>Органы равновесия в ноге.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fe1ff"/>
                </a:solidFill>
                <a:latin typeface="Times New Roman"/>
              </a:rPr>
              <a:t>Органы химического чувства – в жабрах.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8" descr="беззубка"/>
          <p:cNvPicPr/>
          <p:nvPr/>
        </p:nvPicPr>
        <p:blipFill>
          <a:blip r:embed="rId3"/>
          <a:stretch/>
        </p:blipFill>
        <p:spPr>
          <a:xfrm>
            <a:off x="4427640" y="3716280"/>
            <a:ext cx="4249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280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е 4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95280" y="836640"/>
            <a:ext cx="8424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ыпишите номера правильных утвержд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одзаголовок 5"/>
          <p:cNvSpPr/>
          <p:nvPr/>
        </p:nvSpPr>
        <p:spPr>
          <a:xfrm>
            <a:off x="324000" y="1844640"/>
            <a:ext cx="8569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Тело моллюсков состоит из туловища и ноги  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аковина служит защитой мягкому телу моллюсков 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екоторые моллюски не имеют раковины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ервная система моллюсков образована нервными стволами, соединенными перемычками 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рганы дыхания – жабры, у наземных представителей – легкие 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Кровеносная система замкнутая 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Все моллюски – растительноядные животные 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рганы выделения моллюсков почки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Все моллюски – гермафродиты 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Щупальца головоногих -  это видоизмененная нога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64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Тело моллюсков состоит из туловища и ноги  (нет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ковина служит защитой мягкому телу моллюсков (да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екоторые моллюски не имеют раковины (да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ервная система моллюсков образована нервными стволами, соединенными перемычками (нет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рганы дыхания – жабры, у наземных представителей – легкие (да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ровеносная система замкнутая (нет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се моллюски – растительноядные животные (нет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рганы выделения моллюсков почки (да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се моллюски – гермафродиты (нет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Щупальца головоногих -  это видоизмененная нога (да)   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2,3, 5, 8,10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ecff"/>
                </a:solidFill>
                <a:uFillTx/>
                <a:latin typeface="Times New Roman"/>
              </a:rPr>
              <a:t>Отличительные черты моллюсков</a:t>
            </a:r>
            <a:r>
              <a:rPr b="1" i="1" lang="ru-RU" sz="3200" spc="-1" strike="noStrike">
                <a:solidFill>
                  <a:srgbClr val="ccec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Среда обитания моллюсков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Моря, пресные водоёмы, суш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Симметрия тела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большинства моллюсков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Двустороння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Тело большинства моллюсков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защищено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Ракови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Тело покрыто кожной складкой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Мант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23640" y="333000"/>
            <a:ext cx="8373960" cy="62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Между телом и мантией находится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Мантийная пол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Тело большинства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моллюсков состоит из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Головы, туловища, ноги, раковины, мант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Кровеносная система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Незамкнут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Органы дыхания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Лёгкое или жаб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В пищеварительной системе появляются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органы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тёрка, печень, слюнные желез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250560" y="404640"/>
            <a:ext cx="88930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Органы выделения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Поч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Нервная система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Нервные узлы, нервные стволы, нер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Органы чувств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Осязания, обоняния, зрения, равновесия, химического чув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fe1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По способу размножения моллюски</a:t>
            </a:r>
            <a:r>
              <a:rPr b="1" lang="ru-RU" sz="3200" spc="-1" strike="noStrike">
                <a:solidFill>
                  <a:srgbClr val="afe1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Verdana"/>
              </a:rPr>
              <a:t>Раздельнополые и гермафроди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3"/>
          <p:cNvSpPr/>
          <p:nvPr/>
        </p:nvSpPr>
        <p:spPr>
          <a:xfrm>
            <a:off x="557280" y="1487520"/>
            <a:ext cx="83883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Домашнее задание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. 11,12,определения, вопросы,  составить рассказ на тему « Значение Моллюсков»,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Прямоугольник 5" descr=""/>
          <p:cNvPicPr/>
          <p:nvPr/>
        </p:nvPicPr>
        <p:blipFill>
          <a:blip r:embed="rId1"/>
          <a:stretch/>
        </p:blipFill>
        <p:spPr>
          <a:xfrm>
            <a:off x="920880" y="3681360"/>
            <a:ext cx="732132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5960" y="-360"/>
            <a:ext cx="7772400" cy="130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«Тип Моллюски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826920" y="1484280"/>
            <a:ext cx="75614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Моллюски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– от латинского слова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olluskus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», что в переводе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значает –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мягкий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493560" y="4524480"/>
            <a:ext cx="82296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Times New Roman"/>
              </a:rPr>
              <a:t>Мягкотелые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77920" y="-3240"/>
            <a:ext cx="8616960" cy="14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АЗНООБРАЗИЕ МОЛЛЮСКОВ  - 230 тыс. видо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битают в морях, пресных водоёмах и на суше, разнообразный облик, длина тела от 1 мм до 20 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7" descr="ариатна"/>
          <p:cNvPicPr/>
          <p:nvPr/>
        </p:nvPicPr>
        <p:blipFill>
          <a:blip r:embed="rId1"/>
          <a:stretch/>
        </p:blipFill>
        <p:spPr>
          <a:xfrm>
            <a:off x="2700360" y="1657440"/>
            <a:ext cx="3843360" cy="3908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кальмар"/>
          <p:cNvPicPr/>
          <p:nvPr/>
        </p:nvPicPr>
        <p:blipFill>
          <a:blip r:embed="rId2"/>
          <a:stretch/>
        </p:blipFill>
        <p:spPr>
          <a:xfrm>
            <a:off x="2341440" y="1654200"/>
            <a:ext cx="4488120" cy="4183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вин"/>
          <p:cNvPicPr/>
          <p:nvPr/>
        </p:nvPicPr>
        <p:blipFill>
          <a:blip r:embed="rId3"/>
          <a:stretch/>
        </p:blipFill>
        <p:spPr>
          <a:xfrm>
            <a:off x="2050920" y="1654200"/>
            <a:ext cx="5270760" cy="4257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7" descr="кальмар 2"/>
          <p:cNvPicPr/>
          <p:nvPr/>
        </p:nvPicPr>
        <p:blipFill>
          <a:blip r:embed="rId4"/>
          <a:stretch/>
        </p:blipFill>
        <p:spPr>
          <a:xfrm>
            <a:off x="1866960" y="1657440"/>
            <a:ext cx="5510160" cy="4254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9" descr="моллюски"/>
          <p:cNvPicPr/>
          <p:nvPr/>
        </p:nvPicPr>
        <p:blipFill>
          <a:blip r:embed="rId5"/>
          <a:stretch/>
        </p:blipFill>
        <p:spPr>
          <a:xfrm>
            <a:off x="1866960" y="1657440"/>
            <a:ext cx="5657760" cy="4254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5" descr="осьминог"/>
          <p:cNvPicPr/>
          <p:nvPr/>
        </p:nvPicPr>
        <p:blipFill>
          <a:blip r:embed="rId6"/>
          <a:stretch/>
        </p:blipFill>
        <p:spPr>
          <a:xfrm>
            <a:off x="1866960" y="1657440"/>
            <a:ext cx="5832360" cy="4438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7" descr="2"/>
          <p:cNvPicPr/>
          <p:nvPr/>
        </p:nvPicPr>
        <p:blipFill>
          <a:blip r:embed="rId7"/>
          <a:stretch/>
        </p:blipFill>
        <p:spPr>
          <a:xfrm>
            <a:off x="1866960" y="1654200"/>
            <a:ext cx="5861160" cy="4441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1" descr="мор"/>
          <p:cNvPicPr/>
          <p:nvPr/>
        </p:nvPicPr>
        <p:blipFill>
          <a:blip r:embed="rId8"/>
          <a:stretch/>
        </p:blipFill>
        <p:spPr>
          <a:xfrm>
            <a:off x="1670040" y="1657440"/>
            <a:ext cx="6089760" cy="4441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5" descr="виногра"/>
          <p:cNvPicPr/>
          <p:nvPr/>
        </p:nvPicPr>
        <p:blipFill>
          <a:blip r:embed="rId9"/>
          <a:stretch/>
        </p:blipFill>
        <p:spPr>
          <a:xfrm>
            <a:off x="1309680" y="1657440"/>
            <a:ext cx="662472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ВНЕШНЕЕ СТРОЕНИЕ МОЛЛЮСК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6" descr="Копия (2) строение двустворчарых"/>
          <p:cNvPicPr/>
          <p:nvPr/>
        </p:nvPicPr>
        <p:blipFill>
          <a:blip r:embed="rId1"/>
          <a:stretch/>
        </p:blipFill>
        <p:spPr>
          <a:xfrm>
            <a:off x="1619280" y="3716280"/>
            <a:ext cx="5689440" cy="2365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Рисунок16"/>
          <p:cNvPicPr/>
          <p:nvPr/>
        </p:nvPicPr>
        <p:blipFill>
          <a:blip r:embed="rId2"/>
          <a:stretch/>
        </p:blipFill>
        <p:spPr>
          <a:xfrm>
            <a:off x="4716360" y="1052640"/>
            <a:ext cx="4176720" cy="2376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Копия строение брюхоногих26"/>
          <p:cNvPicPr/>
          <p:nvPr/>
        </p:nvPicPr>
        <p:blipFill>
          <a:blip r:embed="rId3"/>
          <a:stretch/>
        </p:blipFill>
        <p:spPr>
          <a:xfrm>
            <a:off x="250920" y="836640"/>
            <a:ext cx="3967200" cy="25923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"/>
          <p:cNvSpPr/>
          <p:nvPr/>
        </p:nvSpPr>
        <p:spPr>
          <a:xfrm>
            <a:off x="684360" y="61498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- Что отличает моллюсков от других животных?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Times New Roman"/>
              </a:rPr>
              <a:t>Части тела моллюсков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95280" y="1052640"/>
            <a:ext cx="86407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1. Голова (у двустворчатых – не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2. Туловищ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3. Нога (щупальца – у головоноги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4. Ман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5. Раков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Симметрия тела большинства моллюсков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двустороння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Брюхоногие – </a:t>
            </a:r>
            <a:r>
              <a:rPr b="1" i="1" lang="ru-RU" sz="3200" spc="-1" strike="noStrike" u="sng">
                <a:solidFill>
                  <a:srgbClr val="afe1ff"/>
                </a:solidFill>
                <a:uFillTx/>
                <a:latin typeface="Times New Roman"/>
              </a:rPr>
              <a:t>асимметричные </a:t>
            </a: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живот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ВНУТРЕННЕЕ СТРОЕНИЕ МОЛЛЮСК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5003640" y="328464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1692360" y="224172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чебник - П. 42,  стр. 159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2843280" y="127944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Задание 1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880920" y="3137040"/>
            <a:ext cx="7140600" cy="30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Прочитайте строение  систем  внутр. органов, обсудите в парах.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- Что нового появилось у моллюсков во внутр. строении? Как усложнилось тело по сравнению с ранее изученными животными?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7" descr="2"/>
          <p:cNvPicPr/>
          <p:nvPr/>
        </p:nvPicPr>
        <p:blipFill>
          <a:blip r:embed="rId1"/>
          <a:stretch/>
        </p:blipFill>
        <p:spPr>
          <a:xfrm>
            <a:off x="684360" y="1279440"/>
            <a:ext cx="7200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осьминог1"/>
          <p:cNvPicPr/>
          <p:nvPr/>
        </p:nvPicPr>
        <p:blipFill>
          <a:blip r:embed="rId1"/>
          <a:stretch/>
        </p:blipFill>
        <p:spPr>
          <a:xfrm>
            <a:off x="324000" y="765000"/>
            <a:ext cx="3889080" cy="2799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перловица1"/>
          <p:cNvPicPr/>
          <p:nvPr/>
        </p:nvPicPr>
        <p:blipFill>
          <a:blip r:embed="rId2"/>
          <a:stretch/>
        </p:blipFill>
        <p:spPr>
          <a:xfrm>
            <a:off x="324000" y="3809880"/>
            <a:ext cx="3887640" cy="2745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слизень"/>
          <p:cNvPicPr/>
          <p:nvPr/>
        </p:nvPicPr>
        <p:blipFill>
          <a:blip r:embed="rId3"/>
          <a:stretch/>
        </p:blipFill>
        <p:spPr>
          <a:xfrm>
            <a:off x="5076720" y="3860640"/>
            <a:ext cx="3672000" cy="27162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611280" y="306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ОСЬМИНОГ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539640" y="5877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611280" y="6021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ЕРЛОВИЦА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6084720" y="5877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ЛИЗЕНЬ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17" descr="виногра"/>
          <p:cNvPicPr/>
          <p:nvPr/>
        </p:nvPicPr>
        <p:blipFill>
          <a:blip r:embed="rId4"/>
          <a:stretch/>
        </p:blipFill>
        <p:spPr>
          <a:xfrm>
            <a:off x="5076720" y="765000"/>
            <a:ext cx="3673440" cy="27561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9"/>
          <p:cNvSpPr/>
          <p:nvPr/>
        </p:nvSpPr>
        <p:spPr>
          <a:xfrm>
            <a:off x="5148360" y="299736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</a:rPr>
              <a:t>ВИНОГРАДНАЯ УЛИТКА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1547640" y="11592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fe1ff"/>
                </a:solidFill>
                <a:latin typeface="Times New Roman"/>
              </a:rPr>
              <a:t>НАЙДИТЕ ОТЛИЧИЯ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Times New Roman"/>
              </a:rPr>
              <a:t>КЛАССИФИКАЦИЯ МОЛЛЮСК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468360" y="4797360"/>
            <a:ext cx="2448000" cy="1579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"/>
          <p:cNvPicPr/>
          <p:nvPr/>
        </p:nvPicPr>
        <p:blipFill>
          <a:blip r:embed="rId2"/>
          <a:stretch/>
        </p:blipFill>
        <p:spPr>
          <a:xfrm>
            <a:off x="6518160" y="4932360"/>
            <a:ext cx="2009880" cy="15811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5"/>
          <p:cNvSpPr/>
          <p:nvPr/>
        </p:nvSpPr>
        <p:spPr>
          <a:xfrm>
            <a:off x="1403280" y="1413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ичество видов более 230 тысяч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3635280" y="1989000"/>
            <a:ext cx="1873440" cy="935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ип Моллюски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755640" y="3573360"/>
            <a:ext cx="1655640" cy="863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юхоногие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8"/>
          <p:cNvSpPr/>
          <p:nvPr/>
        </p:nvSpPr>
        <p:spPr>
          <a:xfrm flipH="1" flipV="1" rot="10806600">
            <a:off x="177480" y="6328800"/>
            <a:ext cx="193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3780000" y="3573360"/>
            <a:ext cx="1728720" cy="865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устворчатые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6516720" y="357336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6588000" y="3573360"/>
            <a:ext cx="1656000" cy="863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овоногие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12"/>
          <p:cNvSpPr/>
          <p:nvPr/>
        </p:nvSpPr>
        <p:spPr>
          <a:xfrm flipH="1">
            <a:off x="1835280" y="2924280"/>
            <a:ext cx="223200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13"/>
          <p:cNvSpPr/>
          <p:nvPr/>
        </p:nvSpPr>
        <p:spPr>
          <a:xfrm>
            <a:off x="4643280" y="2924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14"/>
          <p:cNvSpPr/>
          <p:nvPr/>
        </p:nvSpPr>
        <p:spPr>
          <a:xfrm>
            <a:off x="5292720" y="2924280"/>
            <a:ext cx="216072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17" descr="перловица1"/>
          <p:cNvPicPr/>
          <p:nvPr/>
        </p:nvPicPr>
        <p:blipFill>
          <a:blip r:embed="rId3"/>
          <a:stretch/>
        </p:blipFill>
        <p:spPr>
          <a:xfrm>
            <a:off x="3635280" y="4797360"/>
            <a:ext cx="223200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ecff"/>
                </a:solidFill>
                <a:latin typeface="Times New Roman"/>
              </a:rPr>
              <a:t>У НЕКОТОРЫХ  ВИДОВ РАКОВИНЫ НЕ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Picture 4" descr="кальмар"/>
          <p:cNvPicPr/>
          <p:nvPr/>
        </p:nvPicPr>
        <p:blipFill>
          <a:blip r:embed="rId1"/>
          <a:stretch/>
        </p:blipFill>
        <p:spPr>
          <a:xfrm>
            <a:off x="468360" y="907920"/>
            <a:ext cx="3672000" cy="2406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слизень"/>
          <p:cNvPicPr/>
          <p:nvPr/>
        </p:nvPicPr>
        <p:blipFill>
          <a:blip r:embed="rId2"/>
          <a:stretch/>
        </p:blipFill>
        <p:spPr>
          <a:xfrm>
            <a:off x="468360" y="3573360"/>
            <a:ext cx="3672000" cy="287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кальмар 2"/>
          <p:cNvPicPr/>
          <p:nvPr/>
        </p:nvPicPr>
        <p:blipFill>
          <a:blip r:embed="rId3"/>
          <a:stretch/>
        </p:blipFill>
        <p:spPr>
          <a:xfrm>
            <a:off x="4716360" y="4149720"/>
            <a:ext cx="3911760" cy="2316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осьминог"/>
          <p:cNvPicPr/>
          <p:nvPr/>
        </p:nvPicPr>
        <p:blipFill>
          <a:blip r:embed="rId4"/>
          <a:stretch/>
        </p:blipFill>
        <p:spPr>
          <a:xfrm>
            <a:off x="4716360" y="907920"/>
            <a:ext cx="39546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huk</dc:creator>
  <dc:description/>
  <dc:language>en-US</dc:language>
  <cp:lastModifiedBy>Татьяна</cp:lastModifiedBy>
  <dcterms:modified xsi:type="dcterms:W3CDTF">2002-01-28T22:16:04Z</dcterms:modified>
  <cp:revision>228</cp:revision>
  <dc:subject/>
  <dc:title>PowerPoint Presentation</dc:title>
</cp:coreProperties>
</file>